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DDD-C5BF-4365-8EBB-891AA1D0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2E7-7487-452A-9DBC-689DA1A2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FEB-4C4C-4244-AA47-FB3C6195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E31-2752-46D3-BE8B-4B5FA571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AE09-E3DA-4BAC-B675-05485F87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053A-3171-4D6D-8496-5A7F69F3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5EFF-3338-44B0-97AB-6C233D3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F3E0-9E4C-4DC5-AE04-BBD75D5E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04F-E889-472F-9C8A-90B2851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1B9B-075D-4E69-B9AF-1B5F5F10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FF8-E57F-4196-8F09-C04026C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167-412D-431E-B1CD-BCBF62BB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5675-B8D2-4941-BA41-769E8B6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7CDC-FE1B-4FBF-A390-26C515A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10FD-B61E-47D0-8F99-C80594F8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BE77-75A4-4458-89F3-F049E396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61BC-1342-4776-81D4-D89AA02C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B65-A992-4765-A921-0BB244CF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B1E-0113-49D7-9D53-32FB73D6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7B5F-DD88-4CE2-8B28-1D05BB4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880-D36D-449C-8055-4DCB6EA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F9E-DCFC-4ED6-A61D-AAF6EB27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8AE-4CA7-45DD-A209-C9DEB8B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94F-0142-493C-AAF2-312F51D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C19-280B-4B50-8524-1ABD19936B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52F-1609-43CF-8493-3426323B84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ackages.net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packages.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ng System Packages for Bioinfor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.05.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96080" y="6095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838080" cy="615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39120" y="6095880"/>
            <a:ext cx="5526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primary fo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AT daem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CBI Toolkit (BLAST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 &amp; Bio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&amp; protein sequ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fea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tolo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installed using a common directory stru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CSC tools (utilities, BLAT system service, CGI scrip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 / Biocondu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apps (Gbrowse, Textpresso, …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sequence (fa, nib, blastd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features (Affy probeset alignments, mRNA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MOD Components Avail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90512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od-web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809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r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2"/>
            <a:endCxn id="143" idx="0"/>
          </p:cNvCxnSpPr>
          <p:nvPr/>
        </p:nvCxnSpPr>
        <p:spPr>
          <a:xfrm>
            <a:off x="4533480" y="2361960"/>
            <a:ext cx="2096280" cy="14482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41" idx="0"/>
          </p:cNvCxnSpPr>
          <p:nvPr/>
        </p:nvCxnSpPr>
        <p:spPr>
          <a:xfrm>
            <a:off x="4533480" y="2361960"/>
            <a:ext cx="7246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2"/>
            <a:endCxn id="140" idx="0"/>
          </p:cNvCxnSpPr>
          <p:nvPr/>
        </p:nvCxnSpPr>
        <p:spPr>
          <a:xfrm flipH="1">
            <a:off x="3847320" y="2361960"/>
            <a:ext cx="686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39" idx="0"/>
          </p:cNvCxnSpPr>
          <p:nvPr/>
        </p:nvCxnSpPr>
        <p:spPr>
          <a:xfrm flipH="1">
            <a:off x="2437560" y="2361960"/>
            <a:ext cx="20962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981080" y="44956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9" idx="2"/>
            <a:endCxn id="148" idx="0"/>
          </p:cNvCxnSpPr>
          <p:nvPr/>
        </p:nvCxnSpPr>
        <p:spPr>
          <a:xfrm>
            <a:off x="2437920" y="4266720"/>
            <a:ext cx="10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1752480" y="1905120"/>
            <a:ext cx="6019920" cy="1904760"/>
            <a:chOff x="1752480" y="1905120"/>
            <a:chExt cx="6019920" cy="1904760"/>
          </a:xfrm>
        </p:grpSpPr>
        <p:sp>
          <p:nvSpPr>
            <p:cNvPr id="151" name=""/>
            <p:cNvSpPr/>
            <p:nvPr/>
          </p:nvSpPr>
          <p:spPr>
            <a:xfrm>
              <a:off x="1752480" y="19051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s2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1" idx="2"/>
              <a:endCxn id="139" idx="0"/>
            </p:cNvCxnSpPr>
            <p:nvPr/>
          </p:nvCxnSpPr>
          <p:spPr>
            <a:xfrm>
              <a:off x="2437920" y="2361960"/>
              <a:ext cx="1080" cy="14482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6400800" y="251460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pollo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4812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map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42" idx="2"/>
              <a:endCxn id="154" idx="1"/>
            </p:cNvCxnSpPr>
            <p:nvPr/>
          </p:nvCxnSpPr>
          <p:spPr>
            <a:xfrm>
              <a:off x="4533840" y="2362320"/>
              <a:ext cx="1867680" cy="9151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2" idx="2"/>
              <a:endCxn id="153" idx="1"/>
            </p:cNvCxnSpPr>
            <p:nvPr/>
          </p:nvCxnSpPr>
          <p:spPr>
            <a:xfrm>
              <a:off x="4533840" y="2362320"/>
              <a:ext cx="1867680" cy="3816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1"/>
              <a:endCxn id="139" idx="0"/>
            </p:cNvCxnSpPr>
            <p:nvPr/>
          </p:nvCxnSpPr>
          <p:spPr>
            <a:xfrm flipH="1">
              <a:off x="2437560" y="3276360"/>
              <a:ext cx="3963240" cy="533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3" idx="1"/>
              <a:endCxn id="139" idx="0"/>
            </p:cNvCxnSpPr>
            <p:nvPr/>
          </p:nvCxnSpPr>
          <p:spPr>
            <a:xfrm flipH="1">
              <a:off x="2437560" y="2742840"/>
              <a:ext cx="3963240" cy="10674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159" name=""/>
          <p:cNvSpPr/>
          <p:nvPr/>
        </p:nvSpPr>
        <p:spPr>
          <a:xfrm>
            <a:off x="609480" y="5383080"/>
            <a:ext cx="79250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sa’ can be substituted for your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 built for ‘Cel’, ‘Hsa’, ‘S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9000" y="2362320"/>
            <a:ext cx="3581280" cy="2590560"/>
            <a:chOff x="3429000" y="2362320"/>
            <a:chExt cx="3581280" cy="2590560"/>
          </a:xfrm>
        </p:grpSpPr>
        <p:sp>
          <p:nvSpPr>
            <p:cNvPr id="161" name=""/>
            <p:cNvSpPr/>
            <p:nvPr/>
          </p:nvSpPr>
          <p:spPr>
            <a:xfrm>
              <a:off x="5638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sc-B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495680"/>
              <a:ext cx="2057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nome-Hsa-n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42" idx="2"/>
              <a:endCxn id="161" idx="0"/>
            </p:cNvCxnSpPr>
            <p:nvPr/>
          </p:nvCxnSpPr>
          <p:spPr>
            <a:xfrm>
              <a:off x="4533840" y="2362320"/>
              <a:ext cx="179136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2" idx="2"/>
              <a:endCxn id="162" idx="0"/>
            </p:cNvCxnSpPr>
            <p:nvPr/>
          </p:nvCxnSpPr>
          <p:spPr>
            <a:xfrm flipH="1">
              <a:off x="4457160" y="2362320"/>
              <a:ext cx="7668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detail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6" idx="2"/>
            <a:endCxn id="168" idx="0"/>
          </p:cNvCxnSpPr>
          <p:nvPr/>
        </p:nvCxnSpPr>
        <p:spPr>
          <a:xfrm flipH="1">
            <a:off x="3085560" y="3505320"/>
            <a:ext cx="191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2"/>
            <a:endCxn id="16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7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5" idx="2"/>
            <a:endCxn id="17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350532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6" idx="2"/>
            <a:endCxn id="176" idx="0"/>
          </p:cNvCxnSpPr>
          <p:nvPr/>
        </p:nvCxnSpPr>
        <p:spPr>
          <a:xfrm>
            <a:off x="3276360" y="3504960"/>
            <a:ext cx="10288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2"/>
            <a:endCxn id="17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3"/>
            <a:endCxn id="17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3"/>
            <a:endCxn id="18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28600" y="30481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69" idx="2"/>
            <a:endCxn id="182" idx="0"/>
          </p:cNvCxnSpPr>
          <p:nvPr/>
        </p:nvCxnSpPr>
        <p:spPr>
          <a:xfrm flipH="1">
            <a:off x="1447560" y="2361960"/>
            <a:ext cx="1676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981080" y="434340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2"/>
            <a:endCxn id="184" idx="0"/>
          </p:cNvCxnSpPr>
          <p:nvPr/>
        </p:nvCxnSpPr>
        <p:spPr>
          <a:xfrm flipH="1">
            <a:off x="1028520" y="3504960"/>
            <a:ext cx="22485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8195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3" idx="2"/>
            <a:endCxn id="188" idx="0"/>
          </p:cNvCxnSpPr>
          <p:nvPr/>
        </p:nvCxnSpPr>
        <p:spPr>
          <a:xfrm>
            <a:off x="75816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0" idx="2"/>
            <a:endCxn id="190" idx="0"/>
          </p:cNvCxnSpPr>
          <p:nvPr/>
        </p:nvCxnSpPr>
        <p:spPr>
          <a:xfrm>
            <a:off x="57528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86" idx="0"/>
          </p:cNvCxnSpPr>
          <p:nvPr/>
        </p:nvCxnSpPr>
        <p:spPr>
          <a:xfrm>
            <a:off x="308592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2"/>
            <a:endCxn id="193" idx="0"/>
          </p:cNvCxnSpPr>
          <p:nvPr/>
        </p:nvCxnSpPr>
        <p:spPr>
          <a:xfrm>
            <a:off x="1028520" y="44956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621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6" idx="2"/>
            <a:endCxn id="194" idx="0"/>
          </p:cNvCxnSpPr>
          <p:nvPr/>
        </p:nvCxnSpPr>
        <p:spPr>
          <a:xfrm>
            <a:off x="4304880" y="41911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 Expression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648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43440" y="33908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/N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1"/>
            <a:endCxn id="199" idx="3"/>
          </p:cNvCxnSpPr>
          <p:nvPr/>
        </p:nvCxnSpPr>
        <p:spPr>
          <a:xfrm flipH="1">
            <a:off x="533376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98" idx="0"/>
          </p:cNvCxnSpPr>
          <p:nvPr/>
        </p:nvCxnSpPr>
        <p:spPr>
          <a:xfrm>
            <a:off x="6543720" y="4152960"/>
            <a:ext cx="10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48120" y="35337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G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2"/>
            <a:endCxn id="197" idx="0"/>
          </p:cNvCxnSpPr>
          <p:nvPr/>
        </p:nvCxnSpPr>
        <p:spPr>
          <a:xfrm>
            <a:off x="3733560" y="3990960"/>
            <a:ext cx="1080" cy="6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200" idx="1"/>
          </p:cNvCxnSpPr>
          <p:nvPr/>
        </p:nvCxnSpPr>
        <p:spPr>
          <a:xfrm>
            <a:off x="4419360" y="3762000"/>
            <a:ext cx="1324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924280" y="182880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/2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ty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203" idx="0"/>
          </p:cNvCxnSpPr>
          <p:nvPr/>
        </p:nvCxnSpPr>
        <p:spPr>
          <a:xfrm>
            <a:off x="3723840" y="2971440"/>
            <a:ext cx="104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2"/>
          </p:cNvCxnSpPr>
          <p:nvPr/>
        </p:nvCxnSpPr>
        <p:spPr>
          <a:xfrm>
            <a:off x="3733560" y="5105160"/>
            <a:ext cx="10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7" idx="2"/>
          </p:cNvCxnSpPr>
          <p:nvPr/>
        </p:nvCxnSpPr>
        <p:spPr>
          <a:xfrm flipH="1">
            <a:off x="3123720" y="5105160"/>
            <a:ext cx="6105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7" idx="2"/>
          </p:cNvCxnSpPr>
          <p:nvPr/>
        </p:nvCxnSpPr>
        <p:spPr>
          <a:xfrm>
            <a:off x="3733560" y="5105520"/>
            <a:ext cx="611640" cy="14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iopackages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~1000 RPMs for Fedora Core 2,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via y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e site for a configuration ex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more archite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or Cygwin &amp; OS X.  RPM has been ported to bo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package build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arm of multiple architectures, controllable via scheduler (GridEng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(if possible) inclusion of new software / data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, config files, documentation, and/or data encapsulated in a single f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adata describ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sion, license, package “categor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community interest and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adding more package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existing packages curren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k Al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red Fo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ian O’Con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dd Har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coln St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ley Nel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y of a spec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&amp; install script hoo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bui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inst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target audi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M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ckage Dependency Grap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2"/>
            <a:endCxn id="98" idx="0"/>
          </p:cNvCxnSpPr>
          <p:nvPr/>
        </p:nvCxnSpPr>
        <p:spPr>
          <a:xfrm flipH="1">
            <a:off x="2704680" y="3505320"/>
            <a:ext cx="572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9" idx="2"/>
            <a:endCxn id="9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2"/>
            <a:endCxn id="10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2"/>
            <a:endCxn id="10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6" idx="2"/>
            <a:endCxn id="107" idx="0"/>
          </p:cNvCxnSpPr>
          <p:nvPr/>
        </p:nvCxnSpPr>
        <p:spPr>
          <a:xfrm>
            <a:off x="3276360" y="3504960"/>
            <a:ext cx="7246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2"/>
            <a:endCxn id="10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9" idx="3"/>
            <a:endCxn id="11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28600" y="251460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2"/>
            <a:endCxn id="112" idx="0"/>
          </p:cNvCxnSpPr>
          <p:nvPr/>
        </p:nvCxnSpPr>
        <p:spPr>
          <a:xfrm flipH="1">
            <a:off x="1447560" y="236196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600200" y="434340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6" idx="2"/>
            <a:endCxn id="114" idx="0"/>
          </p:cNvCxnSpPr>
          <p:nvPr/>
        </p:nvCxnSpPr>
        <p:spPr>
          <a:xfrm flipH="1">
            <a:off x="1256760" y="3504960"/>
            <a:ext cx="20199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4114800" y="4876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o-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96" idx="2"/>
            <a:endCxn id="116" idx="0"/>
          </p:cNvCxnSpPr>
          <p:nvPr/>
        </p:nvCxnSpPr>
        <p:spPr>
          <a:xfrm>
            <a:off x="3276360" y="3505320"/>
            <a:ext cx="1448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2004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ation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 Manag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ls to manage installation, upgrade, uninstallation of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y package integrity (checksum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stem integ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ow rollback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chec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graph recur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 software customization (patch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Generation of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gz/bz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s Insta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bioinformatics packag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 of installation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oinfo. package installs vary wildly, and commonly lack docu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 dependency instal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 modules especially bad – bioperl has 60+ modules in its dependency tr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grity/Auditing of system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 an installed package works, which version, how to replicate system set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ghter integration with operating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emons, config &amp; log file location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 packages only right n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mary focus on Fedora Cor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RPMs also available f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ora Cor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Hat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ygw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1:13:05Z</dcterms:created>
  <dc:creator>aday</dc:creator>
  <dc:description/>
  <dc:language>en-US</dc:language>
  <cp:lastModifiedBy>Scott Cain</cp:lastModifiedBy>
  <dcterms:modified xsi:type="dcterms:W3CDTF">2005-05-17T21:40:32Z</dcterms:modified>
  <cp:revision>37</cp:revision>
  <dc:subject/>
  <dc:title>Slide 1</dc:title>
</cp:coreProperties>
</file>